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BB4-7CD6-44BE-84EC-5A2D5631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56A-0D56-442F-B99C-1F442BCF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AE8-6F23-4FAE-BA6F-720F88CF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CA9-B43F-4CFA-B0A2-D20B999E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AEA-3561-430B-B4F9-758589F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8C8-F217-4C85-8910-E7C5AF88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7FC-277D-4BEA-82DF-C1F4F5B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A1C-635B-404B-9AE9-68253FE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1E7-15EC-4FDF-A8A3-390E065E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AE9-00C2-4B94-962A-7D662AF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E8E-A3A3-4B93-AC0A-7C98885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C33-DC0E-40B3-BDF1-A8D6E1F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5FE-5398-405E-8DFD-4DC22584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 SSS/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33520"/>
            <a:ext cx="77724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08040"/>
            <a:ext cx="777240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6560" y="609480"/>
            <a:ext cx="766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74640"/>
            <a:ext cx="77724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984240"/>
            <a:ext cx="77724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31520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" y="4235400"/>
            <a:ext cx="7543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57120"/>
            <a:ext cx="8229600" cy="253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241800"/>
            <a:ext cx="69343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277920"/>
            <a:ext cx="7086600" cy="3684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44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436680"/>
            <a:ext cx="6781680" cy="329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4173480"/>
            <a:ext cx="777240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436680"/>
            <a:ext cx="6781680" cy="352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4476600"/>
            <a:ext cx="655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766800"/>
            <a:ext cx="77724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9200"/>
            <a:ext cx="7467480" cy="388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4259160"/>
            <a:ext cx="6858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2840" y="609480"/>
            <a:ext cx="6716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98360"/>
            <a:ext cx="7238880" cy="376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4203720"/>
            <a:ext cx="7162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39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285840"/>
            <a:ext cx="6629400" cy="344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4764240"/>
            <a:ext cx="70866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28520"/>
            <a:ext cx="5638680" cy="383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3600360"/>
            <a:ext cx="8229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750960"/>
            <a:ext cx="44956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55720"/>
            <a:ext cx="77724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751040"/>
            <a:ext cx="7772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596960"/>
            <a:ext cx="77724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825480"/>
            <a:ext cx="77724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6372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511280"/>
            <a:ext cx="77724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991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1:38:24Z</dcterms:created>
  <dc:creator>PSD</dc:creator>
  <dc:description/>
  <dc:language>en-US</dc:language>
  <cp:lastModifiedBy>Parkland High School</cp:lastModifiedBy>
  <dcterms:modified xsi:type="dcterms:W3CDTF">2010-12-17T13:51:48Z</dcterms:modified>
  <cp:revision>9</cp:revision>
  <dc:subject/>
  <dc:title>4.3 SSS/SAS</dc:title>
</cp:coreProperties>
</file>